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6D7-8FCB-45E4-B15E-AABF77CA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4FA-6112-49EB-BA44-0CA5F46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260-ED26-4762-9800-44465008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149-063C-42A1-8F78-65A5496F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CD30-028C-48FB-9DDC-02502F6C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288E-C248-4853-BA52-A8011FF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226F-6AA4-4579-967C-E131B500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7AEB-FF9E-4013-81DA-1BCB0006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C696-549A-4D5E-AE1C-1A260613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491E-D08A-4AA3-B096-2709961F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3425-948C-4EC7-AA58-8D53A24A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3BA-B1BD-4C69-B58A-ED859991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1847-D022-45FC-8B28-8F1122C2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898B-1CFD-4485-8F07-098567A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22C1-3E3B-446D-B6E0-1979BF8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0745-33C5-4870-A3FC-6A18BAA4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27D2-E9D4-4E3B-B36B-672B0C79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73E-55B0-48B7-82D4-AEF143E0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305-B12D-4723-A859-D73301B5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6DC-3FE7-47BC-AC55-01FB9845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6A8-F50B-46A4-824E-E09E8545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952-630D-45A3-B230-9DE07F0B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ECD-4E8A-4C33-858B-994B5DDC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6DD-FA06-4021-936E-1DA9D99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8717-741C-4203-9634-6885D8D9E4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D0C2-25DB-469D-8FC8-547894027B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637000"/>
            <a:ext cx="6400800" cy="1147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рок математики 3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читель: Матвеева С.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2781360"/>
            <a:ext cx="5114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составных уравнений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Алгоритм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решения составных уравн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img1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84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53:39Z</dcterms:created>
  <dc:creator>Admin</dc:creator>
  <dc:description/>
  <dc:language>en-US</dc:language>
  <cp:lastModifiedBy>Admin</cp:lastModifiedBy>
  <dcterms:modified xsi:type="dcterms:W3CDTF">2012-02-05T11:58:04Z</dcterms:modified>
  <cp:revision>3</cp:revision>
  <dc:subject/>
  <dc:title>Слайд 1</dc:title>
</cp:coreProperties>
</file>